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8280400" cy="4140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B517-72CD-4C10-8CD6-2DBACCD47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0A51-98A7-4AF9-BEAD-5F56419E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61D6-7195-4DB5-AC83-460F53FE4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368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9820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952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368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9820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9CAB-CABE-4AF9-A4A2-B8E4C0EEF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7E80-DB32-4CE9-A071-B31C5B8E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2553-D8E8-44D9-B4D0-D6303409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7645-81D2-460E-BB2C-3568B461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F3E2-68D5-4772-9F50-D70B49C2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9520" y="220680"/>
            <a:ext cx="7140600" cy="370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C4DF-D1F9-461F-BBF2-1863A704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9ADA-B6A3-482A-93FB-AF6042CB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9F9E-8E84-4291-AD30-52B48D68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1660-3EA8-4646-A23D-017FBA63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12920" indent="-136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890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96516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952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2840" y="3836520"/>
            <a:ext cx="27939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4784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20758ED4-4446-418F-A67B-E69F9D2E087A}" type="slidenum">
              <a:rPr b="0" lang="en-US" sz="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-1511280" y="-801720"/>
            <a:ext cx="10234440" cy="2327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604880" y="1785960"/>
            <a:ext cx="50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000" spc="-1" strike="noStrike">
                <a:solidFill>
                  <a:srgbClr val="1f4e79"/>
                </a:solidFill>
                <a:latin typeface="Calibri"/>
              </a:rPr>
              <a:t>Davet Met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3730680" y="604800"/>
            <a:ext cx="823680" cy="82404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1604880" y="2998800"/>
            <a:ext cx="50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600" spc="-1" strike="noStrike">
                <a:solidFill>
                  <a:srgbClr val="1f4e79"/>
                </a:solidFill>
                <a:latin typeface="Calibri"/>
              </a:rPr>
              <a:t>İmz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0"/>
            <a:ext cx="8280360" cy="4138560"/>
          </a:xfrm>
          <a:prstGeom prst="rect">
            <a:avLst/>
          </a:prstGeom>
          <a:solidFill>
            <a:srgbClr val="162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392040" y="430200"/>
            <a:ext cx="50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392040" y="849240"/>
            <a:ext cx="50688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Lorem ipsum dolor sit amet, consectetur adipiscing eli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Aenean sit amet quam commodo, facilisis lectus eget, pellentesque mauri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392040" y="3065400"/>
            <a:ext cx="506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Yer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Ege Üniversitesi Kampüsü, Bornova/İZMİR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Tarih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00 Haziran 2018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Saat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20.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2200320" y="1854360"/>
            <a:ext cx="6087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2T06:11:59Z</dcterms:created>
  <dc:creator>Microsoft Office User</dc:creator>
  <dc:description/>
  <dc:language>en-US</dc:language>
  <cp:lastModifiedBy>Microsoft Office User</cp:lastModifiedBy>
  <dcterms:modified xsi:type="dcterms:W3CDTF">2018-04-02T06:36:08Z</dcterms:modified>
  <cp:revision>4</cp:revision>
  <dc:subject/>
  <dc:title>PowerPoint Presentation</dc:title>
</cp:coreProperties>
</file>